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8200-1E20-45A9-B91C-A7A6A0D1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A10B-67FC-452D-990E-8729C69A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C659-E723-4A76-B507-34CE4613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04A5-492F-4DAB-8ABF-DBB9CA9E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5640-DC48-4F9E-BB52-23B0ABEE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83D2-A841-40D5-810E-6D95E9AE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75A9-A853-489C-A8DB-D99A3D95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FA2B-A289-4282-829B-EAF9C7EC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03E1-9A0A-4E70-83E8-77AC9D18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982D-E866-4D6E-BC07-76892EC1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B772-E953-4466-89E3-175BECA9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A6DE-2F82-49B3-BF52-0F44CA0B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3F2D-2D80-4D77-AD40-097A8B38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3B12-0598-4D09-898B-8732144D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738E-13D3-484E-BF41-42FDC940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EB20-36B1-4B90-B257-D14F6227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F32F-BB84-4B6B-B02F-5A31AA2E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6A24-A861-4827-9F5A-DA7E1AD5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04BB-6C8A-4A34-8205-9358482A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C9E-0586-4075-9303-E00C1C8D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B28A-9BEF-486A-B444-DFF1816E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4D60-3BF7-450E-926D-A03BC37E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89BE-6FB0-4D1A-8B1B-044A787B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443C-D928-434A-BA03-FAD10516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DAEF-002D-4036-AC43-A12B72A14B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8AED-EC09-4330-B577-2F3C41C08C3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kpcevrf.ucoz.ru/1/54846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static.insales.ru/images/products/1/2151/149607/large/978-5-9957-0159-0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home-edu.ru/user/uatml/00000900/2kurs/ur7/3.gif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kovrov-online.ru/docs/img/277_1020p01.gif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adm-gavrilovposad.ru/img/ush/002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1767960"/>
            <a:ext cx="8136000" cy="2668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dbbd71"/>
                </a:solidFill>
                <a:latin typeface="Arial"/>
              </a:rPr>
              <a:t>МУНИЦИПАЛЬНОЕ</a:t>
            </a:r>
            <a:br>
              <a:rPr sz="6600"/>
            </a:br>
            <a:r>
              <a:rPr b="0" lang="ru-RU" sz="6600" spc="-1" strike="noStrike">
                <a:solidFill>
                  <a:srgbClr val="dbbd71"/>
                </a:solidFill>
                <a:latin typeface="Arial"/>
              </a:rPr>
              <a:t> ПРАВО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000" spc="-1" strike="noStrike">
                <a:solidFill>
                  <a:srgbClr val="dbbd71"/>
                </a:solidFill>
                <a:latin typeface="Times New Roman"/>
              </a:rPr>
              <a:t>Вопрос 2.</a:t>
            </a:r>
            <a:r>
              <a:rPr b="1" lang="ru-RU" sz="1800" spc="-1" strike="noStrike">
                <a:solidFill>
                  <a:srgbClr val="dbbd71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Муниципально-правовые нормы и институты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ассификацию муниципально – правовых норм можно провести по следующим основаниям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о объекту правового регулирован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т.е. по кругу регулируемых отношений, муниципально-правовые нормы делятся на закрепляющ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СУ в системе народовластия (понятие, принципы, функции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ы деятельности МСУ (территориальная, организационная, финансово-экономическая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дметы ведения и полномочия МСУ; гарантии МС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ветственность ОМСУ и должностных лиц МС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179280" y="1413000"/>
            <a:ext cx="8785440" cy="1295280"/>
          </a:xfrm>
          <a:prstGeom prst="bevel">
            <a:avLst>
              <a:gd name="adj" fmla="val 125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авовые нормы, закрепляющие и регулирующие общественные отношен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зникающие в процессе организации и деятельности местн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моуправления, называются муниципально-правовыми норм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68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68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6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6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998"/>
                            </p:stCondLst>
                            <p:childTnLst>
                              <p:par>
                                <p:cTn id="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6998"/>
                            </p:stCondLst>
                            <p:childTnLst>
                              <p:par>
                                <p:cTn id="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8998"/>
                            </p:stCondLst>
                            <p:childTnLst>
                              <p:par>
                                <p:cTn id="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998"/>
                            </p:stCondLst>
                            <p:childTnLst>
                              <p:par>
                                <p:cTn id="8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2998"/>
                            </p:stCondLst>
                            <p:childTnLst>
                              <p:par>
                                <p:cTn id="9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4998"/>
                            </p:stCondLst>
                            <p:childTnLst>
                              <p:par>
                                <p:cTn id="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6998"/>
                            </p:stCondLst>
                            <p:childTnLst>
                              <p:par>
                                <p:cTn id="1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4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о характеру предписани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управомочивающие (нормы-разрешения, устанавливающие, что можно делать, например, определяющие предметы ведения МСУ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язывающие (содержащие предписания, что нужно делать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прещающие (нормы-запреты, устанавливающие, что нельзя делать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о территории действия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федеральные (действуют на территории России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ействующие на территории субъек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местные (действующие в пределах отдельного муниципального образования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о источника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т.е по характеру актов, в которых содержатся нормы муниципального прав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нормы, действующие на федеральном уровне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нормы, действующие на уровне субъектов Федерац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нормы, действующие и на уровне муниципальных образован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роме того, различают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материально-правовые и процессуальные нормы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териально-правовые нормы закрепляют полномочия ОМСУ и должностных лиц МСУ, права и обязанности граждан, других субъектов муниципального права. Процессуальные нормы определяют порядок (процедуру) выборов и деятельности органов местного самоуправления, порядок принятия решений непосредственно населением муниципальных образований, процедуру реализации права населения на правотворческую инициативу в вопросах местного значения 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ассификация норм муниципального права возможна не только по их видам, но и по муниципально-правовым институтам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равовой институ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в муниципальном праве представляет собой совокупность муниципально-правовых норм, регулирующих определенный круг взаимосвязанных общественных отношений, которые образуют в рамках предмета муниципального права самостоятельную, обособленную группу. В качестве примера можно привести основы деятельности МСУ. Это довольно сложный институт, который состоит из более простых образований: института территориальной основы МСУ, института муниципальной собственности, института муниципальной служб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bbd71"/>
                </a:solidFill>
                <a:latin typeface="Times New Roman"/>
              </a:rPr>
              <a:t>Вопрос 3.   </a:t>
            </a: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Источники отрасли  </a:t>
            </a:r>
            <a:br>
              <a:rPr sz="4000"/>
            </a:b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    муниципальное право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жно выделить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ри групп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источников муниципального права с учетом различных уровней правового регулирования муниципальных отношени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 первой группе относятся нормативно-правовые акты (НПА),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нимаемые на федеральном уровне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Конституция РФ; -   ФЗ №131 «Об общих принципа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рганизации местного самоуправле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Российской Федерации» от 06.10.2003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Европейская хартия МСУ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Указы Президента РФ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Постановления Правительства РФ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 также  нормативно-правовые акт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ругих федеральных органов исполнительной вл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5" descr="Картинка 7 из 1008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554360"/>
            <a:ext cx="1800000" cy="2303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Картинка 4 из 110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08720" y="4005360"/>
            <a:ext cx="1656000" cy="230328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10"/>
          <p:cNvSpPr/>
          <p:nvPr/>
        </p:nvSpPr>
        <p:spPr>
          <a:xfrm>
            <a:off x="0" y="1125360"/>
            <a:ext cx="9144000" cy="1366920"/>
          </a:xfrm>
          <a:prstGeom prst="bevel">
            <a:avLst>
              <a:gd name="adj" fmla="val 125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Источникам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муниципального права являются правовые акты, в которы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станавливаются, изменяются или отменяются правовые нормы, направлен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регулирование муниципальных отношений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торую группу источников составляют НПА, принимаемые органами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осударственной власти субъектов Федераци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Конституции республик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Уставы других субъектов Федер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Законы субъектов Федерации о МСУ, о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униципальной службе, о муниципальных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борах, о местном референдуме, а также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кты президентов республик, глав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дминистраций других субъектов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едерации, постановления законодательны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представительных) органов государствен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ласти  субъектов Федерации, акты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авительств 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5" descr="Картинка 102 из 2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700280"/>
            <a:ext cx="30970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третью группу источников входят НПА,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нятые путем прямого волеизъявления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селения муниципальных образований;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рганами МСУ и должностными лицами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СУ(Уставы муниципальных образований;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щеобязательные правила по предметам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дения муниципального образования,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нятие которых предусматривает уста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нного образов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5" descr="Картинка 22 из 35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413000"/>
            <a:ext cx="2808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Вопрос 4.</a:t>
            </a:r>
            <a:r>
              <a:rPr b="0" lang="ru-RU" sz="1800" spc="-1" strike="noStrike">
                <a:solidFill>
                  <a:srgbClr val="dbbd7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dbbd71"/>
                </a:solidFill>
                <a:latin typeface="Times New Roman"/>
              </a:rPr>
              <a:t>Муниципальное право как наука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униципальная наука имеет свои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методы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следования, то есть совокупность приемов и способов, с помощью которых получаются знания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ни подразделяются на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общенаучные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тоды познания (диалектико-материалистический, системный, социологический), и на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специальны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сравнительного правоведения, нормативно-логический, структурно-функциональный, историко-юридический, метод перехода от общего к частному, от абстрактного к конкретному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научные методы используются, например, при рассмотр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анализе понятия местного самоуправления, его политико-правов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роды, раскрытии сущности местного самоуправления. Анализ системы местного самоуправления, раскрытие элементов и установление взаимосвязей проводятся с помощью специальных методов, в перву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чередь метода сравнительного правоведения, нормативно-логического. Взаимоотношения между органами местного самоуправления определяются при помощи анализа правовых актов, закрепляющих их правовой статус, практики функционирования. Анализ нормативно-правовой базы субъектов Российской Федерации и муниципальных образований позволяет выявить некоторые тенденции, сделать обобщ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0" y="981000"/>
            <a:ext cx="9144000" cy="1152720"/>
          </a:xfrm>
          <a:prstGeom prst="bevel">
            <a:avLst>
              <a:gd name="adj" fmla="val 125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униципальное право как наука  –   это совокупность знаний, теоретически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зглядов, идей о возникновении, развитии, функционировании и будуще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стного самоуправ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0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7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51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9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63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67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71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Вопрос 5. </a:t>
            </a:r>
            <a:r>
              <a:rPr b="0" lang="ru-RU" sz="4000" spc="-1" strike="noStrike">
                <a:solidFill>
                  <a:srgbClr val="dbbd71"/>
                </a:solidFill>
                <a:latin typeface="Times New Roman"/>
              </a:rPr>
              <a:t>Муниципальное право как  </a:t>
            </a: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Times New Roman"/>
              </a:rPr>
              <a:t>     учебная дисциплин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нная дисциплина имеет свою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систему,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од которой понимается логическая последовательность теоретических положений, знаний, составляющих ее содержа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так, система учебной дисциплины муниципального права включает следующие структурные част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ведение в муниципальное прав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СУ в системе народовласт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ы МСУ: территориальные, организационные и финансово-экономически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дметы ведения и полномочия МС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арантии МС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ветственность ОМСУ и должностных лиц МСУ. Контроль за их деятельность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0" y="1484280"/>
            <a:ext cx="9144000" cy="1513080"/>
          </a:xfrm>
          <a:prstGeom prst="bevel">
            <a:avLst>
              <a:gd name="adj" fmla="val 125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униципальное право как учебная дисциплина – это совокупность знаний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едаваемых студентам в процессе обучения в вузе, которые включают в себ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иболее существенные вопросы, связанные с организацией и деятельностью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стного самоуправ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1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35344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МУНИЦИПАЬНОЕ ПРАВО КАК ОТРАСЛЬ ПРАВА, НАУКА И УЧЕБНАЯ ДИСЦИПЛИНА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ведение в муниципальное право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рмин «Муниципальное право Российской Федерации» употребляется в трех основных значения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-первых, так называется совокупность правовых норм, регулирующих определенную область общественных отношений и составляющих одну из отраслей системы права Российской Федерац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-вторых, так именуется научная дисциплина – совокупность научных теорий и знаний, обобщающих данную область общественных отношений, практику реализации норм муниципального пра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-третьих, в соответствии с наименованием отрасли права и научной дисциплины муниципальным правом называется – учебная дисциплина, изучение которой предусматривается учебными планами юридических вузов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bd71"/>
                </a:solidFill>
                <a:latin typeface="Arial"/>
              </a:rPr>
              <a:t>Вопрос 1.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Понятие и предмет отрасли</a:t>
            </a: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  Муниципальное право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4362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AutoShape 8"/>
          <p:cNvSpPr/>
          <p:nvPr/>
        </p:nvSpPr>
        <p:spPr>
          <a:xfrm rot="11014200">
            <a:off x="1618920" y="1699920"/>
            <a:ext cx="6053040" cy="1090440"/>
          </a:xfrm>
          <a:prstGeom prst="wedgeRoundRectCallout">
            <a:avLst>
              <a:gd name="adj1" fmla="val 71819"/>
              <a:gd name="adj2" fmla="val 80171"/>
              <a:gd name="adj3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ятие отрасли «Муниципальное право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3203640" y="2708280"/>
            <a:ext cx="485640" cy="503280"/>
          </a:xfrm>
          <a:prstGeom prst="downArrow">
            <a:avLst>
              <a:gd name="adj1" fmla="val 50000"/>
              <a:gd name="adj2" fmla="val 25908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AutoShape 10"/>
          <p:cNvSpPr/>
          <p:nvPr/>
        </p:nvSpPr>
        <p:spPr>
          <a:xfrm>
            <a:off x="0" y="3805200"/>
            <a:ext cx="9144000" cy="3052800"/>
          </a:xfrm>
          <a:prstGeom prst="bevel">
            <a:avLst>
              <a:gd name="adj" fmla="val 125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униципальное право Российской Федерации – это комплексная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расль права, представляющая собой совокупность правовых норм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крепляющих и регулирующих общественные отношения, возникающие 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цессе организации местного самоуправления и решения население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униципальных образований непосредственно, через выборные и друг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рганы местного самоуправления вопросов местного значения, а также 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цессе реализации отдельных государственных полномочий, которым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гут наделяться органы местного самоуправл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mph" presetID="2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nodeType="after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467 C 2.77778E-007 -0.03399 0.03715 -0.02404 0.08472 -0.02404 C 0.12222 -0.02196 0.15295 -0.0289 0.15451 -0.03676 C 0.15451 -0.04416 0.12309 -0.04693 0.08542 -0.04693 C 0.06615 -0.04693 0.04861 -0.04693 0.03611 -0.0467 C 0.0184 -0.04416 0.00764 -0.0393 0.00764 -0.0326 C 0.00764 -0.0289 0.01094 -0.02404 0.01667 -0.02196 C 0.02969 -0.01387 0.05469 -0.01179 0.08351 -0.00878 C 0.11771 -0.00878 0.14549 -0.01387 0.14549 -0.02196 C 0.14635 -0.0289 0.1184 -0.03399 0.08472 -0.03399 C 0.06719 -0.03399 0.05191 -0.03399 0.03958 -0.0326 C 0.02465 -0.0289 0.01493 -0.02404 0.01493 -0.01711 C 0.01493 -0.01387 0.01771 -0.01179 0.0224 -0.00878 C 0.03437 -0.00439 0.05694 0.00093 0.08351 0.00093 C 0.11441 0.00324 0.13872 -0.00115 0.13872 -0.00878 C 0.13941 -0.01387 0.11476 -0.01896 0.08351 -0.02196 C 0.06823 -0.02196 0.05417 -0.01896 0.04392 -0.01896 C 0.02969 -0.01387 0.02135 -0.01179 0.02135 -0.00439 C 0.02135 -0.00115 0.02396 0.00093 0.02865 0.00324 C 0.03889 0.00971 0.05937 0.01203 0.08212 0.01457 C 0.11024 0.01457 0.13264 0.00971 0.13264 0.00324 C 0.13264 -0.00115 0.11059 -0.00624 0.08351 -0.00878 C 0.06962 -0.00878 0.05694 -0.00624 0.04722 -0.00624 C 0.03437 -0.00439 0.02674 0.00093 0.02622 0.00648 C 0.02622 0.00971 0.02969 0.01203 0.03333 0.01457 C 0.04236 0.01966 0.06146 0.02243 0.0816 0.02243 C 0.1066 0.02243 0.12726 0.01966 0.12726 0.01457 C 0.12795 0.00971 0.10747 0.00324 0.08212 0.00324 C 0.07049 0.00324 0.05868 0.00324 0.05035 0.00648 C 0.03889 0.00971 0.03212 0.01203 0.03212 0.01596 C 0.03212 0.01966 0.03368 0.02243 0.03715 0.02474 C 0.04583 0.02752 0.06215 0.03237 0.08142 0.03237 C 0.10417 0.03237 0.12222 0.02983 0.12222 0.02474 C 0.12292 0.01966 0.10469 0.01457 0.0816 0.01457 C 0.07118 0.01457 0.06146 0.01457 0.05347 0.01596 C 0.04323 0.01966 0.03715 0.02243 0.03715 0.02752 C 0.03715 0.02983 0.03889 0.02983 0.04219 0.03237 C 0.04913 0.03746 0.06424 0.04023 0.08142 0.04023 C 0.10191 0.04023 0.11771 0.03746 0.11771 0.03237 C 0.11771 0.02983 0.10243 0.02474 0.0816 0.02474 C 0.0717 0.02474 0.06215 0.02474 0.05521 0.02752 C 0.04583 0.02752 0.04045 0.03237 0.04045 0.03376 C 0.04045 0.03746 0.04236 0.03746 0.04566 0.04023 C 0.05243 0.04255 0.06615 0.0444 0.08073 0.04786 C 0.09948 0.04786 0.11441 0.0444 0.11441 0.04023 C 0.11441 0.03746 0.09948 0.03237 0.08142 0.03237 C 0.07292 0.03237 0.06424 0.03237 0.05799 0.03376 C 0.04913 0.03746 0.04444 0.04023 0.04444 0.04255 C 0.04444 0.0444 0.04583 0.0444 0.04861 0.04786 C 0.05469 0.04994 0.06649 0.05272 0.08073 0.05272 C 0.0967 0.05272 0.11024 0.04994 0.11024 0.04786 C 0.11024 0.0444 0.09687 0.04023 0.08073 0.04023 C 0.07309 0.04023 0.06545 0.04023 0.05972 0.04255 C 0.05243 0.0444 0.04792 0.04786 0.04792 0.04994 C 0.04792 0.05272 0.04913 0.05272 0.05191 0.05272 C 0.05747 0.05503 0.06771 0.05757 0.08073 0.05757 C 0.09514 0.05757 0.10747 0.05503 0.10747 0.05272 C 0.10747 0.04994 0.09514 0.04786 0.08073 0.04786 C 0.07309 0.04786 0.06649 0.04786 0.06215 0.04994 C 0.05469 0.04994 0.05069 0.05272 0.05069 0.05503 C 0.05069 0.05757 0.05243 0.05757 0.05417 0.05757 C 0.05937 0.0622 0.06892 0.0622 0.07986 0.06844 C 0.09375 0.06844 0.10417 0.0622 0.10417 0.06035 C 0.10417 0.05503 0.09375 0.05503 0.08073 0.05272 C 0.07396 0.05272 0.06771 0.05503 0.06337 0.05503 C 0.05747 0.05503 0.05347 0.05757 0.05347 0.06035 C 0.05347 0.0622 0.05469 0.0622 0.05694 0.06844 E">
                                      <p:cBhvr>
                                        <p:cTn id="4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dbbd71"/>
                </a:solidFill>
                <a:latin typeface="Times New Roman"/>
              </a:rPr>
              <a:t>Согласно ч.2 ст.1 Федерального закона от 6 октября 2003 г. №131-ФЗ «Об общих принципах организации местного самоуправления в Российской Федерации»</a:t>
            </a: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«Местное самоуправление в Российской Федерации – форма осуществления народом своей власти, обеспечивающая в пределах, установленных Конституцией Российской Федерации, федеральными законами, а в случаях, установленных федеральными законами, - законами субъектов Российской Федерации, самостоятельное и под свою ответственность решение населением непосредственно и (или) через органы местного самоуправления вопросов местного значения исходя из интересов населения с учетом исторических и иных местных традиций».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Статья 1 Закона определяет местное самоуправление как форму осуществления народом своей власти, которая согласно Конституции РФ осуществляется посредством двух основных ее форм: государственной власти и </a:t>
            </a:r>
            <a:r>
              <a:rPr b="1" lang="ru-RU" sz="2000" spc="-1" strike="noStrike">
                <a:solidFill>
                  <a:srgbClr val="dbbd71"/>
                </a:solidFill>
                <a:latin typeface="Times New Roman"/>
              </a:rPr>
              <a:t>власти местного самоуправления (муниципальной власти).</a:t>
            </a: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Более полное представление о структуре предмета муниципального права дает выделение в нем следующих групп общественных отношений: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Группа общественных отношений, составляющих предмет муниципального права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163" name="Diagram 8"/>
          <p:cNvGrpSpPr/>
          <p:nvPr/>
        </p:nvGrpSpPr>
        <p:grpSpPr>
          <a:xfrm>
            <a:off x="324000" y="1593720"/>
            <a:ext cx="7419960" cy="3997800"/>
            <a:chOff x="324000" y="1593720"/>
            <a:chExt cx="7419960" cy="3997800"/>
          </a:xfrm>
        </p:grpSpPr>
        <p:sp>
          <p:nvSpPr>
            <p:cNvPr id="164" name="_s1028"/>
            <p:cNvSpPr/>
            <p:nvPr/>
          </p:nvSpPr>
          <p:spPr>
            <a:xfrm>
              <a:off x="3851280" y="2276280"/>
              <a:ext cx="1431360" cy="141372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_s1029"/>
            <p:cNvSpPr/>
            <p:nvPr/>
          </p:nvSpPr>
          <p:spPr>
            <a:xfrm>
              <a:off x="3956760" y="1593720"/>
              <a:ext cx="16120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ff"/>
                  </a:solidFill>
                  <a:latin typeface="Times New Roman"/>
                </a:rPr>
                <a:t>1. Отношения, возникающие в процессе осуществления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3366ff"/>
                  </a:solidFill>
                  <a:latin typeface="Times New Roman"/>
                </a:rPr>
                <a:t>местного самоуправления гражданами путем прямого волеизъявления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_s1030"/>
            <p:cNvSpPr/>
            <p:nvPr/>
          </p:nvSpPr>
          <p:spPr>
            <a:xfrm>
              <a:off x="4356000" y="2924280"/>
              <a:ext cx="1431720" cy="141516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_s1031"/>
            <p:cNvSpPr/>
            <p:nvPr/>
          </p:nvSpPr>
          <p:spPr>
            <a:xfrm>
              <a:off x="6131880" y="4583880"/>
              <a:ext cx="1612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           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            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         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3. Отношения, возникающие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        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в связи  осуществлением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      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отдельных государственных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                    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функций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               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_s1032"/>
            <p:cNvSpPr/>
            <p:nvPr/>
          </p:nvSpPr>
          <p:spPr>
            <a:xfrm>
              <a:off x="3492000" y="2924280"/>
              <a:ext cx="1432800" cy="141372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_s1033"/>
            <p:cNvSpPr/>
            <p:nvPr/>
          </p:nvSpPr>
          <p:spPr>
            <a:xfrm>
              <a:off x="324000" y="5157720"/>
              <a:ext cx="16120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a500"/>
                  </a:solidFill>
                  <a:latin typeface="Times New Roman"/>
                </a:rPr>
                <a:t>2. Отношения, возникающие в связи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a500"/>
                  </a:solidFill>
                  <a:latin typeface="Times New Roman"/>
                </a:rPr>
                <a:t>с осуществлением деятельности органов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a500"/>
                  </a:solidFill>
                  <a:latin typeface="Times New Roman"/>
                </a:rPr>
                <a:t>местного самоуправления и должностных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a500"/>
                  </a:solidFill>
                  <a:latin typeface="Times New Roman"/>
                </a:rPr>
                <a:t>лиц местного самоуправления по решению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a500"/>
                  </a:solidFill>
                  <a:latin typeface="Times New Roman"/>
                </a:rPr>
                <a:t>вопросов местного значения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a500"/>
                  </a:solidFill>
                  <a:latin typeface="Times New Roman"/>
                </a:rPr>
                <a:t>(в финансово-бюджетной сфере,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a500"/>
                  </a:solidFill>
                  <a:latin typeface="Times New Roman"/>
                </a:rPr>
                <a:t>в сфере управления собственностью, и т.д.);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639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dbbd71"/>
                </a:solidFill>
                <a:latin typeface="Times New Roman"/>
              </a:rPr>
              <a:t>Отношения составляющие предмет муниципально-правового   </a:t>
            </a:r>
            <a:br>
              <a:rPr sz="2400"/>
            </a:br>
            <a:r>
              <a:rPr b="0" lang="ru-RU" sz="2400" spc="-1" strike="noStrike">
                <a:solidFill>
                  <a:srgbClr val="dbbd71"/>
                </a:solidFill>
                <a:latin typeface="Times New Roman"/>
              </a:rPr>
              <a:t>           регулирования обладают определенными </a:t>
            </a:r>
            <a:r>
              <a:rPr b="0" i="1" lang="ru-RU" sz="2400" spc="-1" strike="noStrike">
                <a:solidFill>
                  <a:srgbClr val="dbbd71"/>
                </a:solidFill>
                <a:latin typeface="Times New Roman"/>
              </a:rPr>
              <a:t>признаками: </a:t>
            </a:r>
            <a:br>
              <a:rPr sz="2400"/>
            </a:br>
            <a:br>
              <a:rPr sz="2000"/>
            </a:br>
            <a:r>
              <a:rPr b="0" i="1" lang="ru-RU" sz="2000" spc="-1" strike="noStrike">
                <a:solidFill>
                  <a:srgbClr val="dbbd71"/>
                </a:solidFill>
                <a:latin typeface="Times New Roman"/>
              </a:rPr>
              <a:t>-во-первых</a:t>
            </a: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, эти отношения имеют локально-территориальный характер;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dbbd71"/>
                </a:solidFill>
                <a:latin typeface="Times New Roman"/>
              </a:rPr>
              <a:t>-во-вторых</a:t>
            </a: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, данные отношения носят комплексный характер, так как связаны с реализацией задач и функций местного самоуправления во всех сферах местной жизни: экономической, бюджетно-финансовой, социально-культурной, охраны общественного порядка и др.;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</a:t>
            </a:r>
            <a:br>
              <a:rPr sz="2000"/>
            </a:br>
            <a:r>
              <a:rPr b="0" i="1" lang="ru-RU" sz="2000" spc="-1" strike="noStrike">
                <a:solidFill>
                  <a:srgbClr val="dbbd71"/>
                </a:solidFill>
                <a:latin typeface="Times New Roman"/>
              </a:rPr>
              <a:t>-в-третьих</a:t>
            </a: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, обязательным субъектом муниципально-правовых отношений выступает либо население муниципального образования, либо орган или должностное лицо местного самоуправления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639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bbd71"/>
                </a:solidFill>
                <a:latin typeface="Times New Roman"/>
              </a:rPr>
              <a:t>        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dbbd71"/>
                </a:solidFill>
                <a:latin typeface="Times New Roman"/>
              </a:rPr>
              <a:t>           </a:t>
            </a:r>
            <a:br>
              <a:rPr sz="2400"/>
            </a:br>
            <a:r>
              <a:rPr b="0" lang="ru-RU" sz="2400" spc="-1" strike="noStrike">
                <a:solidFill>
                  <a:srgbClr val="dbbd71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dbbd71"/>
                </a:solidFill>
                <a:latin typeface="Times New Roman"/>
              </a:rPr>
              <a:t>Субъекты муниципально – правовых отношений можно  </a:t>
            </a:r>
            <a:br>
              <a:rPr sz="2400"/>
            </a:br>
            <a:r>
              <a:rPr b="0" lang="ru-RU" sz="2400" spc="-1" strike="noStrike">
                <a:solidFill>
                  <a:srgbClr val="dbbd71"/>
                </a:solidFill>
                <a:latin typeface="Times New Roman"/>
              </a:rPr>
              <a:t>                          разделить условно на три группы:</a:t>
            </a:r>
            <a:br>
              <a:rPr sz="24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- к первой группе относится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   особый субъект –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муниципальное образование;     - ко второй группе относятся субъекты, 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                                               наделенные правом принимать решения 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                                              (участвовать в принятии решений) по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                                               вопросам местного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                                               значения (прежде всего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                                               население, собрания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                                               (сходы) граждан,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                                               выборные и другие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                                               органы местного самоуправления);                                                     </a:t>
            </a:r>
            <a:br>
              <a:rPr sz="2000"/>
            </a:br>
            <a:r>
              <a:rPr b="0" lang="ru-RU" sz="2400" spc="-1" strike="noStrike">
                <a:solidFill>
                  <a:srgbClr val="dbbd71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- к третьей относятся субъекты, которые в той или иной форме содействуют 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                                               осуществлению местного самоуправления 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                                               (органы территориального общественного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                                               самоуправления, ассоциации и союзы 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                                               муниципальных образований,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                                                государственные органы, общественные 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                                                объединения, предприятия, учреждения, 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                                                 организации).</a:t>
            </a:r>
            <a:r>
              <a:rPr b="0" lang="ru-RU" sz="2400" spc="-1" strike="noStrike">
                <a:solidFill>
                  <a:srgbClr val="dbbd71"/>
                </a:solidFill>
                <a:latin typeface="Times New Roman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2" name="Picture 4" descr="моя администрация"/>
          <p:cNvPicPr/>
          <p:nvPr/>
        </p:nvPicPr>
        <p:blipFill>
          <a:blip r:embed="rId1"/>
          <a:stretch/>
        </p:blipFill>
        <p:spPr>
          <a:xfrm>
            <a:off x="539640" y="1916280"/>
            <a:ext cx="2808360" cy="2104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выборы"/>
          <p:cNvPicPr/>
          <p:nvPr/>
        </p:nvPicPr>
        <p:blipFill>
          <a:blip r:embed="rId2"/>
          <a:stretch/>
        </p:blipFill>
        <p:spPr>
          <a:xfrm>
            <a:off x="6372360" y="2492280"/>
            <a:ext cx="2447640" cy="1511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Картинка 4 из 3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4724280"/>
            <a:ext cx="29512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631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bd71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dbbd71"/>
                </a:solidFill>
                <a:latin typeface="Times New Roman"/>
              </a:rPr>
              <a:t>Методы правового регулирования муниципальных  </a:t>
            </a:r>
            <a:br>
              <a:rPr sz="2400"/>
            </a:br>
            <a:r>
              <a:rPr b="0" lang="ru-RU" sz="2400" spc="-1" strike="noStrike">
                <a:solidFill>
                  <a:srgbClr val="dbbd71"/>
                </a:solidFill>
                <a:latin typeface="Times New Roman"/>
              </a:rPr>
              <a:t>                                            отношений</a:t>
            </a: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Муниципальное право, как и другие отрасли, воздействуют на общественные отношения с помощью таких правовых приемов (способов), как </a:t>
            </a:r>
            <a:br>
              <a:rPr sz="2000"/>
            </a:br>
            <a:r>
              <a:rPr b="0" i="1" lang="ru-RU" sz="2000" spc="-1" strike="noStrike">
                <a:solidFill>
                  <a:srgbClr val="dbbd71"/>
                </a:solidFill>
                <a:latin typeface="Times New Roman"/>
              </a:rPr>
              <a:t>предписание</a:t>
            </a: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, </a:t>
            </a:r>
            <a:br>
              <a:rPr sz="2000"/>
            </a:br>
            <a:r>
              <a:rPr b="0" i="1" lang="ru-RU" sz="2000" spc="-1" strike="noStrike">
                <a:solidFill>
                  <a:srgbClr val="dbbd71"/>
                </a:solidFill>
                <a:latin typeface="Times New Roman"/>
              </a:rPr>
              <a:t>дозволение</a:t>
            </a: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, </a:t>
            </a:r>
            <a:br>
              <a:rPr sz="2000"/>
            </a:br>
            <a:r>
              <a:rPr b="0" i="1" lang="ru-RU" sz="2000" spc="-1" strike="noStrike">
                <a:solidFill>
                  <a:srgbClr val="dbbd71"/>
                </a:solidFill>
                <a:latin typeface="Times New Roman"/>
              </a:rPr>
              <a:t>запрет</a:t>
            </a: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сочетание которых и определяет характер правового регулирования.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 В зависимости от преобладания в отрасли права, того или иного правового приема различают два основных метода правового регулирования: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dbbd71"/>
                </a:solidFill>
                <a:latin typeface="Times New Roman"/>
              </a:rPr>
              <a:t>Императивный</a:t>
            </a: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.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dbbd71"/>
                </a:solidFill>
                <a:latin typeface="Times New Roman"/>
              </a:rPr>
              <a:t>Диспозитивный</a:t>
            </a: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.    </a:t>
            </a:r>
            <a:br>
              <a:rPr sz="2000"/>
            </a:b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   Кроме императивного и диспозитивного методов в муниципальном праве используется метод </a:t>
            </a:r>
            <a:r>
              <a:rPr b="0" i="1" lang="ru-RU" sz="2000" spc="-1" strike="noStrike">
                <a:solidFill>
                  <a:srgbClr val="dbbd71"/>
                </a:solidFill>
                <a:latin typeface="Times New Roman"/>
              </a:rPr>
              <a:t>гарантий</a:t>
            </a: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 (применяется прежде всего на федеральном уровне правового регулирования местного самоуправления) и метод </a:t>
            </a:r>
            <a:r>
              <a:rPr b="0" i="1" lang="ru-RU" sz="2000" spc="-1" strike="noStrike">
                <a:solidFill>
                  <a:srgbClr val="dbbd71"/>
                </a:solidFill>
                <a:latin typeface="Times New Roman"/>
              </a:rPr>
              <a:t>рекомендаций </a:t>
            </a:r>
            <a:r>
              <a:rPr b="0" lang="ru-RU" sz="2000" spc="-1" strike="noStrike">
                <a:solidFill>
                  <a:srgbClr val="dbbd71"/>
                </a:solidFill>
                <a:latin typeface="Times New Roman"/>
              </a:rPr>
              <a:t>(рекомендации в адрес органов местного самоуправления обычно содержится в указах Президента РФ, постановлениях Правительства РФ, а также в актах органов государственной власти субъектов Федерации).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18:07:43Z</dcterms:created>
  <dc:creator>www.MRMARKER.ru</dc:creator>
  <dc:description/>
  <dc:language>en-US</dc:language>
  <cp:lastModifiedBy>PackardBell</cp:lastModifiedBy>
  <dcterms:modified xsi:type="dcterms:W3CDTF">2023-10-25T16:05:56Z</dcterms:modified>
  <cp:revision>18</cp:revision>
  <dc:subject/>
  <dc:title>МУНИЦИПАЛЬНОЕ  ПРАВО</dc:title>
</cp:coreProperties>
</file>